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82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m Hastings, Xerox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C33BBC64-E822-45DB-B987-130466780DB1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254214D1-3D26-43F7-BCFB-FEB759BC2DAF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and Local devi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24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TF SNMP + DMTF D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and Extension to multifunctio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erox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00560" y="563868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27144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ITC Bookman"/>
                <a:ea typeface="ITC Bookman"/>
              </a:rPr>
              <a:t>DMI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57720" y="1041480"/>
            <a:ext cx="139860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2120" y="1041480"/>
            <a:ext cx="140328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0920" y="5130720"/>
            <a:ext cx="97164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7000" y="5532480"/>
            <a:ext cx="974880" cy="6476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76320" y="5978520"/>
            <a:ext cx="974880" cy="6382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27160" y="3538440"/>
            <a:ext cx="5429160" cy="100800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46440" y="4600440"/>
            <a:ext cx="2305080" cy="4017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89200" y="2989440"/>
            <a:ext cx="2444760" cy="4017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400" y="1015920"/>
            <a:ext cx="139536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68280" y="2022480"/>
            <a:ext cx="9032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48160" y="2022480"/>
            <a:ext cx="1015920" cy="7048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08040" y="1519200"/>
            <a:ext cx="4559400" cy="34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6320" y="4094280"/>
            <a:ext cx="68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42120" y="3984480"/>
            <a:ext cx="1527120" cy="37800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96000" y="5130720"/>
            <a:ext cx="96696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8480" y="5532480"/>
            <a:ext cx="976320" cy="6476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21400" y="5978520"/>
            <a:ext cx="979560" cy="6382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2320" y="5118120"/>
            <a:ext cx="97308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13080" y="5516640"/>
            <a:ext cx="965160" cy="64440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20960" y="5961240"/>
            <a:ext cx="976320" cy="63972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8920" y="5786280"/>
            <a:ext cx="5222880" cy="32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7440" y="3627360"/>
            <a:ext cx="1538280" cy="10936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8280" y="3946680"/>
            <a:ext cx="1224000" cy="63180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94800" y="3587760"/>
            <a:ext cx="0" cy="111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43920" y="3332160"/>
            <a:ext cx="1550880" cy="40968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43920" y="355932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42120" y="4521240"/>
            <a:ext cx="1538280" cy="40644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7960" y="4491000"/>
            <a:ext cx="1511280" cy="21420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05080" y="2009880"/>
            <a:ext cx="1157400" cy="7048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34280" y="1336680"/>
            <a:ext cx="560520" cy="456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4040" y="-19080"/>
            <a:ext cx="77868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to the DMI enables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1400" y="4711680"/>
            <a:ext cx="554040" cy="71928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3c3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88240" y="5124600"/>
            <a:ext cx="358920" cy="23184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3c3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Remo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16000" y="3394080"/>
            <a:ext cx="1225800" cy="11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06400" y="4214880"/>
            <a:ext cx="153360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6560" y="5643720"/>
            <a:ext cx="266760" cy="266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5645160"/>
            <a:ext cx="266760" cy="2667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76560" y="5629320"/>
            <a:ext cx="266760" cy="2667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1760" y="3902040"/>
            <a:ext cx="1295280" cy="6238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8960" y="3098880"/>
            <a:ext cx="1679400" cy="55260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9520" y="2230560"/>
            <a:ext cx="1830240" cy="6318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4567320"/>
            <a:ext cx="294012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35320" y="2598840"/>
            <a:ext cx="923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43240" y="4160880"/>
            <a:ext cx="2129040" cy="423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51240" y="5059440"/>
            <a:ext cx="728640" cy="630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984400" y="5064120"/>
            <a:ext cx="20340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6640" y="5068800"/>
            <a:ext cx="809640" cy="62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95760" y="4606920"/>
            <a:ext cx="836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8cf4ea"/>
                </a:solidFill>
                <a:latin typeface="Arial"/>
                <a:ea typeface="Arial"/>
              </a:rPr>
              <a:t>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87800" y="5324400"/>
            <a:ext cx="608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0200" y="3946680"/>
            <a:ext cx="1257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79640" y="1657440"/>
            <a:ext cx="1587600" cy="10810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03600" y="1658880"/>
            <a:ext cx="18748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cation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50840" y="5913360"/>
            <a:ext cx="2013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ms,Disk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deo &amp; Network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54320" y="5937120"/>
            <a:ext cx="1446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S, Applica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rivers, 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703760" y="5937120"/>
            <a:ext cx="17938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eripher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use, Print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ms , Tape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65800" y="2279520"/>
            <a:ext cx="803160" cy="61272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83080" y="3048120"/>
            <a:ext cx="814320" cy="6127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M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69040" y="3797280"/>
            <a:ext cx="655560" cy="1101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175360" y="1092240"/>
            <a:ext cx="11206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vi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916680" y="789120"/>
            <a:ext cx="19494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8960" y="2602080"/>
            <a:ext cx="1077840" cy="61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267680" y="1828800"/>
            <a:ext cx="1457280" cy="11016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NMP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176880" y="3278160"/>
            <a:ext cx="1278000" cy="1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472520" y="3116160"/>
            <a:ext cx="1457280" cy="8571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33960" y="4362480"/>
            <a:ext cx="1530360" cy="6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3120" y="4200480"/>
            <a:ext cx="1393920" cy="134604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32080" y="2592360"/>
            <a:ext cx="2124000" cy="1986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52960" y="3382920"/>
            <a:ext cx="2116080" cy="119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59080" y="2778120"/>
            <a:ext cx="0" cy="177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67560" y="4327560"/>
            <a:ext cx="1438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C 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t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5120" y="3095640"/>
            <a:ext cx="1392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gnost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Al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800" y="2238480"/>
            <a:ext cx="1990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duct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Configu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47880" y="295200"/>
            <a:ext cx="404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480000" y="1584360"/>
            <a:ext cx="56844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the Printer MIB to M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managing scanner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managing multifunctio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job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functio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define scanner and FA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scanner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FA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new DPA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print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-read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to multi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b has source and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estination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for PCs and simp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t extend to high e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e idea of jobs contai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 each basic job has only one destina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ably want to allow multiple phone numbers on a single 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multi-level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 does it transparently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specifies scan source, print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 transforms one-level job into two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b contains one scan job and one pri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submits multi-level job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create subjob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680" y="1447920"/>
            <a:ext cx="784872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people with MF expertise to define scanner/FAX SNMP device MIBs and DMI M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tup an IETF/DMTF WG to define scanners and FAX SNMP MI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join existing IETF/DMTF P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join some other group? MFPA 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 ISO DPA WG to extend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ep MIB objects equivalent to new DPA job, scanner/FAX devic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on IETF/DMTF P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be added to email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mi-request@hpbs987.boi.h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WG is meeting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24160" y="423720"/>
            <a:ext cx="75978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on DM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68520" y="186840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xBACK:        (800) 525-3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k for Document #55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MTF hotline:  (503) 221-2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te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lleti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95480" y="6597720"/>
            <a:ext cx="5948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*Other brands and names are the property of their respective own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us of SNMP, DMI, Printer MIB, Printer MI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IETF SNMP and MI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ote management on a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DMTF DMI and M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cal management on a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ps for 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of SNMP, Printer MIB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MPv1 internet standard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MPv2 approved, except for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MIB, RFC 1759, March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a proposed standard - at least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xt step is a draft standard - at least 3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rove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ilable:  ftp.isi.edu  /in-notes/rfc1759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of DMTF, Printer MIB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ktop Management Task Force (DM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ortiium: DEC, HP, IBM, Intel, Microsoft, Novell, SunConnect, Syn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MTF DMI V1.0 standard published April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MIF, WG draft September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WG (PWG), joint IETF/DMTF, started Sept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IETF SN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Network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managing device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s set and ge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data objects (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station issues sets and 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gent implements the sets and gets for a particular M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Information Base (MIB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a specification for each kind of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Printer MIB, host resources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cation of data objects (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eviceType, DeviceModel, InputStatus, InputMediaName, CurrentOperator, ServicePerson, ConsoleDis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, RFC 17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74 accessible objects in 8 mandator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8 accessible objects in 10 op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s Host Resouces MIB and MIB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3 accessible objects in 1 mandato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2 accessible objects in 5 op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 devi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173240"/>
            <a:ext cx="70102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 place in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895320"/>
            <a:ext cx="660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alk given to MFPA IOC Sept 28-29, 1995</dc:description>
  <dc:language>en-US</dc:language>
  <cp:lastModifiedBy>ES Xerox</cp:lastModifiedBy>
  <cp:revision>0</cp:revision>
  <dc:subject>Extension to multifunction</dc:subject>
  <dc:title>LAN and Local Device Management</dc:title>
</cp:coreProperties>
</file>