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8609-0EFA-4677-988A-6283CEB5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1617-E3B0-43B5-B54C-2937658B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EC6D-C85D-4C2F-9B5A-19C6254E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FB0D-3932-4682-9953-C92A08CC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CC9D-F397-47A5-8041-4206667E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7479-7893-47EB-953E-45704100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D35E-90D8-4061-9072-C8F72C21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BA50-85EB-434F-865B-0657DA74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E255-F26C-4800-B64E-C439A16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9406-DD90-4FEC-BC1B-538DB471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799E-7F7A-47F5-AE1B-16D8DB5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B65C-27F0-4572-998C-E7750667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5BA-EE61-46A2-9FA8-B2DF062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A6A6-D6FC-422D-9684-86596FF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BC3E-EF1D-471E-8BE7-47AF4ABC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0354-857F-41EE-9830-6D904C5C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B894-8CF0-4E23-84AA-B2C58948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1634-97CF-438F-95C3-CC1ABA0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2465-ADCE-4904-BD8F-D7B2474C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7D10-EF39-41F0-BBA9-262F8363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7CF4-069B-411D-B9F1-F3B4787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C952-F0DA-45A0-8AFE-29E4212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AB13-DAE1-48A8-92A1-83A94A6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E495-70A5-4ADF-94A2-AF49B7AC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E2E2-1CB5-4136-A4E9-FCD44B8EA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C7A-26CD-4744-91ED-68DCA5836B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inter Working Group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ovo – December 2003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6019920" y="4724280"/>
          <a:ext cx="289548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724280"/>
                    <a:ext cx="28954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ne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s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l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57200" y="1600200"/>
          <a:ext cx="8229600" cy="5268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4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of Ju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UPnP 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2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gust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1600200"/>
          <a:ext cx="8229600" cy="4533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pt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r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2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Muni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to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Redmo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57200" y="1600200"/>
          <a:ext cx="8229600" cy="4987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Hallow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nksgiving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nksgiv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c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eror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E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s E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eering Committee Recommend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PWG treasury report to Ple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adding PWG officer - Marke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twice yearly executive sympo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for interest on new projects (Discovery, Notifications, IPP?, Fo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other groups (UPn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coordinate better with Microsoft, FSG, W3C, Oasis and DMTF in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additional opportunities to align with standards developing in consumer and high-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STO PWG Re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s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your lo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Offic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nominee per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 ending Sept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ir – Harry Lew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e Chair – Lee F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– Jerry Thra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 to Bill Wagner – departing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vo 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 - WBMM 9:0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ary 8:30-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antic Model 1:3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I 8:30-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P-FAX; JobX and Extensions 1:3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 – Notif/Discovery BOF 8:30-1: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Pro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f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pwg-process20-2003-1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WG Project Statu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ter ap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Call completed on specification and best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l vote to close 12/19/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op planned (C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ed as footnote to semantic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B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ter ap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liminary draft of specification for Ops and 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inue to work on Schema for Report, Alert, 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k on requirements docu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rmony with CIM, WSDM a go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irements spec &amp; PDF/is in Last Call ending Jan 6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X Protocol spec finishing u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HTML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oss referencing CSS Print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posed Candidate Recommendation date March 2004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spec issu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call scheduled following Provo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cument Object, JobX and Overides are published 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 in Last Call with few minor cha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 start final vote following Provo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ema planned to become final after Pro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tension model under consi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er/Finisher MIB and IANA Charset MIB in editor’s queue. Formal status pending final IANA consid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Refl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 (Character Repertoi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 (Finis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X (IPP - Fax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P (Internet Printing Protoco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P (Job Monitoring MIB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1394 (1394 Printing [inactive]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 (Print Servic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 (PWG Discuss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-ANNOUNCE (PWG Announce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P (Server Device Protocol [inactive]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E (Asynchronous Notification [inactive]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 (Semantic Mode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 (Universal Printer Driver Forma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BMM (Web based device managemen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P (XHTML-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ated 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source PPML consu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Test suite /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extensions spec and IP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S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TAPI, P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3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right agreement for XHTML-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Services Management Frame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n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an / Feb Agenda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 – WBMM (should we go 2 day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rsday – Plenary / 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 –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2004 Meeting Planning Guidelin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 - Florida, Vegas or 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/April -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- Vancouver B.C / or 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 - Mont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– Madison, WI (I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- San Di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ve locations vs hosted meetings vs UPnP, FSG, PODi, CIP4 harm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anuar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Veg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L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ebruar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57200" y="1600200"/>
          <a:ext cx="8229600" cy="49957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rch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457200" y="1600200"/>
          <a:ext cx="8229600" cy="4335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San Jo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57200" y="1600200"/>
          <a:ext cx="8229600" cy="4395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 (FS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 Day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57200" y="1600200"/>
          <a:ext cx="8229600" cy="4967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Day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Mo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Day; 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l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44:35Z</dcterms:created>
  <dc:creator>Harry Lewis</dc:creator>
  <dc:description/>
  <dc:language>en-US</dc:language>
  <cp:lastModifiedBy>Harry Lewis</cp:lastModifiedBy>
  <dcterms:modified xsi:type="dcterms:W3CDTF">2003-12-04T05:46:44Z</dcterms:modified>
  <cp:revision>168</cp:revision>
  <dc:subject/>
  <dc:title>PWG – January 2003</dc:title>
</cp:coreProperties>
</file>