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8ADB-EE5D-4A10-B1A0-B006F1ED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57AF-6A31-4F83-B811-9DBA5655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628F-7AD9-4271-A5CB-B06E61D7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42D0-63A7-4CC5-B0B8-3B3443B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D474-6367-4EE2-BE0B-C39660F5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3062-F6F7-417C-8BD9-9F52F55B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1D5F-7965-4EC8-BEB5-5ADBDFF0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F39-C7F9-4598-9639-D564E3C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4D7-CF45-4234-8612-1398F7C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71E5-4689-4A91-9CE3-794CCCF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7A3B-996A-441D-92F3-13C98A5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24C-1107-4B93-AF83-F97833CC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7155-928E-4292-BB66-8D75E45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7930-A252-4542-9EF1-008ED74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E950-2506-4292-AB66-A7449CFF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A18-9D15-44FB-ABEE-B641546F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60F-FD58-40EF-9D6E-FE5A5F09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F83E-0F6E-4A2B-B341-547572DF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B252-B452-4F35-BBD1-856688FD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225C-6446-4C3C-B41D-8BF43937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4755-86E5-464F-ACFD-BCEB2ED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DEE0-3322-4933-839C-88CAE2D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64C-8587-4591-922B-8BBA3C8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F1D6-6230-434C-AF99-7F7F3B8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7380-E27E-4C56-9407-1068067F11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F2A-5558-4844-AC2D-A3652F8E94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Notification and Discove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ation B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O – December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PWG Notification 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ication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olidate subscription attributes from various delive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Subscription and Notification schema for WBMM / P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late with existing notification / messaging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Notification server (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printer-service-proxy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MIB top 25 – commonly instrumen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event archit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Notifications Stat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P Notification Base spec, IPP GET, INDP and MailTo submitted to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P and MailTo rejected as push security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spec scrutinized for allowing push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h methods with no SPAM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S 1.2 will ship MAILTO and IND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I and IFX Server directed po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ed in Pro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IPP 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s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using IPP Base notification and IPP GET IETF drafts as reference (where applic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pending PWG working group reque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AP (with IETF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P (with IETF templ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TF (CIM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 (with Microsoft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S (with Novell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MP (basis for many printer discovery applic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nP v1 SSDP and follow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Rendezvous / DNS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DI “T Model” (for public print serv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scale for device disco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ment achieved between SLP, LDAP, SNMP  and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NA registered LDAP schema (RFC Pe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 (Non-routed sub 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zvous, SSDP, SLP, SN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AP, SLP, Active Directory, NDS, *SNMP, *DNSsd, *SSD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inter or Print Service T model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y not scale – no directory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rrent Capabilities Discovery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DDD – pointer to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W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service interface an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in practice to lear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Model Su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WG Discovery Best Practices working dra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, WBMM or IFX Implementer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Discovery Best Practice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best practices on content for service / device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ory, Recommended and Option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informative guide for how to construct discovery queries /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order of use for discovery protocols within a domai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– PWG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y extracting from PSI discovery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scovery Technology Dire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T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Conf (formerly XMLCon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MPCon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 Pri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ing, cost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ide of our dom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 of pri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 follow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PP (Instant Messag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??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sis WS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5T17:56:34Z</dcterms:modified>
  <cp:revision>181</cp:revision>
  <dc:subject/>
  <dc:title>PWG – January 2003</dc:title>
</cp:coreProperties>
</file>